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41B6-29A1-4D0B-829F-6905EA041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048E-B1EE-4C46-8E1F-6B9B3A08F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ld deterioration of kidney function does not usually cause any symp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AD6B-E28E-4D60-87DD-EC4D3D6C4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renal function deteriorates to 30%, patients develop symp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D410-89CC-4619-B396-AE2D548EC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renal functions deteriorates to 15%, patients may require renal replacement therapy to sustain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0740-788C-4489-9327-BAE382B05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mptoms of Renal Failure : Fatigue and weakness due to anaemia and accumulation of toxic waste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7E3B-197D-457C-B4D4-19223368C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Loss of appetite, nausea and vomiting  due to accumulation of toxic waste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B154-F166-4421-970A-D95BFACBF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dal oedema and facial puffiness Due to accumulation of water in the bod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F196-D5D1-4F05-A589-12EE50E43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Difficulty in breathing due to water accumulation in the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50FC-A3A9-4421-A105-D161137A7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Itchiness of skin due to accumulation of toxic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B473-9583-42CB-9723-0379B7BD5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low and pallor     due to anaem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9B5A-F11A-4073-B41A-24FB8EED1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gh bloo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E786-388E-428D-8806-8CAFAC0E2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ake home message 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Majority of patients have no signs and symptoms during early kidney fail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CFA9-6AED-4FA4-A800-B8ABA7CEA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tuated at the centre of the back, below the rib c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80D6-D044-4479-B9D2-AC694FEF8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iminates waste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0FC8-FDBF-4963-96F2-1310B66F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gulate water and electrolytes in the bod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987B-DBEE-436A-B5F5-AAA09B969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gulation of bloo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E86C-E74B-4449-B0B4-926107E86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duction of erythropoeitin hormone for the production of 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BB8B-E0DA-4C9D-ADCE-90DB69317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0B79-445C-469D-8D28-4CDA32E1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duction of active Vitamin D for bone calc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0C7A-0E66-46F3-8A6C-F4EA682BA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A91-B3C8-40FC-8744-C534E7DB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D6A-51B2-47E7-884B-E047CF96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0E03E-C413-4E3E-BB09-7231D800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3CFD3-E689-4D3D-A831-CBF90990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57254-5361-401F-8463-3C26B22C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E3CE8-E08A-4C6C-8F8D-16B57996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E7B2A-FD06-42EE-B857-002C9520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C06DF-7C4F-479C-AFF7-5E4E4A00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E02DA-E4D7-41BD-AE97-AB8F55E8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0304E-A742-4434-B073-D9BB3D54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74D6D-E76B-48E8-A861-8DE25DEE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89A3C-1DB8-48DE-9D39-E3F6DB75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A8A-4646-4313-A219-42F8D768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BC528-DC80-4E52-8E37-6B3B9F7F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D7E6B-AE76-462D-A98B-8E011B34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588B4-785F-41D4-9790-50EE2395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537EC-371B-4AFF-8506-5604E263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85D68-BEA4-42F8-881D-1BE04211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95894-8AF3-4EE4-8925-B649F593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EBF77-B37D-43A9-AF22-BE4DF7A2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54A14-6B65-4F18-912C-2C53D542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756F3-184F-4664-B359-1CA33D29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5AABB-FF73-4B00-8937-3C3CE3EE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A46-1D31-4AFA-ADE8-CADC9BE4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00D3E-AB6D-4248-B17F-857E2533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99FCC-4017-44E2-A87A-4DFA7512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B34D2-4043-42D0-8E73-398BF914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45979-EC42-4320-BFA7-3400A44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FD665-5173-4DD6-9296-3CCEDE4B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02AEF-8BAD-45A5-87A1-52012AAE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E9C83-74F9-4966-9293-87CF163D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3AAD8-32E3-4F5E-B61C-8A4F1575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78FF2-B1B3-42F0-95E1-63466E0B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25F06-0C52-40C9-A1EA-A48F6C24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4CEE-F28B-49F4-B0FB-0EAD4C6F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C6B3D-83DC-4BAA-B609-7C77C4C1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6054D-F08F-4046-8D22-3B29D0C1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3FB10-080E-4F16-9232-89284C2D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2BC28-240F-4D78-ADCA-0A3DC4DC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EC56F-AA2F-4172-BFC0-048A7A21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46947-E941-40ED-A417-A6BF9368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33A93-D912-41C9-8E58-552710F7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6E247-423B-44E7-9B29-78D015B1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29A3B-7EA2-4E85-9ADC-48F0C95F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4243A-B14A-4BCC-893C-C970260D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EFC4-5500-4FD9-8E98-21A198FB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258D2-7821-4B2E-9CA6-DE70CAA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909B3-5446-437A-BE9E-699934AD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6DBCE-3405-44EB-BD9B-1BFD1872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5F07F-FB38-4A2F-A55B-7C38B1A8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E339D-B441-4987-8511-DBA8B640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C1F0-A61B-4D14-8DFF-F8D1B906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0400-D348-4AA2-9D5D-13D0E975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ED33-F325-41FD-8301-BC01DECD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D78C-22A4-4570-82B6-7B3E5784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DF61-73CA-4901-AC3D-27CB3A60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AB7-834D-4A32-B304-932D7761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40D2-F513-44B3-B0E3-9EBB188C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F1C0-510F-4ED2-8CCC-DABFA332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5E4D-118D-4746-8BAD-BC721CD2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FB2D-A1FE-418B-9845-37BB85BB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4FE4-706E-408D-9834-C467918B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1B0D-7A17-45DE-BAD4-C34F88C2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B8AA-08FF-4B34-91ED-E321134C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12A04-C26B-4F9F-9119-D45CCC19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E105-C4C8-4603-BB2A-5D50F72B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4F02-E75A-45AE-A9AE-04E3BEC1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BE1-7BDA-42F6-B77C-87CE4BE1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D706-CC8E-43AF-BA04-F191520E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70FE2-3694-41C8-9374-914DEB07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B5D9E-278E-4DA6-BA99-4924510F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2345-A89D-4E81-B8E7-62AFB247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0B552-CB32-4346-A60F-34C0E81D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3401-7D97-4BF6-87BC-A1FD32AB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FDDD8-4145-4E0B-B991-0F100CCC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197C4-D491-4EC9-862B-088DD513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4BD18-33DA-4BF8-BC22-26E427C6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686E-1DC4-4D4C-8532-5E9C563B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72D-C446-4CE9-A714-29602DF1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A475-E58B-444C-850F-CA1846B9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2C21-4D1F-4A79-BC92-2F7FD469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66F7-0CFD-4C93-B35A-D90B5C0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877D-5B9D-480A-9293-20A1C48F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EC391-6A70-4E1A-B1E1-A6565ED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A71E-0FEE-40EA-8ECC-111E285B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7467-C193-4B68-A59E-3790C0C0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786A-E15E-4B8A-9073-2F2EAEE2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6CBC1-F482-4FA9-80FA-056CBF10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E61D7-D42A-4283-ABC9-E1F254A2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61D-67D7-4D1D-918F-5FCA4EE4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246C-7DB9-4DFB-81B3-A0235A4D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4AE45-97AD-4D31-B3BE-41AF9CAE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EED0-9CDF-4A12-BE13-80892834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7021-8407-4B1E-95DA-8AACADBF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FF288-CC8D-4F7B-A08E-7E05E4F8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2A503-CF4B-40E3-8749-1EDE9DE8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C221-2FDF-417A-ACD9-125E5BB3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2B7E-73CB-433A-96FD-6E9DF4F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593B0-DEAF-44CF-A03A-7919B12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AB5B6-EF33-4AE8-9077-A7A1E0CD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460-4B5A-46D8-B5DB-3D3F1374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A47FF-51C5-4E99-81ED-F2BFE19B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9036D-47B3-4F7B-B2D6-34B6FE07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4F08E-A8DC-45B4-84B2-7B9B7EC5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16FBB-6FDF-40DB-A5BB-1B79E59F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4ADCB-CD7C-4273-BBBC-A052CCF4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12DD7-4123-4B0B-BFB7-CAC51B43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6051D-E6B8-49AF-B832-EA4DE290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18D5E-69AA-4AD2-9715-24111BD1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DC88C-E15A-425F-91D3-A1913EF4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40A3E-11FB-42A8-AE45-BBB30046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530-C892-4FF1-A87D-F4EAB52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22703-B0E6-40FA-B69A-F7A2BDAA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16D0B-A220-4DC8-8FEA-EDE5A454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C7E92-6E24-48FB-9D1D-2B5578F2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00071-92A1-4C54-AF83-64CF0CAE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EC501-2D4A-48A4-93D7-D69341C4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2FDFF-5D9B-45DB-9657-1E5284E5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2EDEB-6784-478D-852D-20A460B3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A3577-62EF-4045-9F1C-41C3912C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CDB4F-F7FE-40B7-892B-FCB3E336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0446D-33A7-49E7-B20A-33A9CCB6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D1F-4FB3-4A7A-87F2-BAE425B1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11259-601D-4EBF-ABEF-7847CD6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C3B4-8A8B-4432-A064-A4E6F819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F602E-9ADC-4D06-B2DB-CC103351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1C8C3-3A94-48CD-89FA-B163FFF1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9CCE2-5CF7-4FB4-A4BB-F07F5808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553CA-290C-4F5C-BE22-12F65A30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91F07-F834-42B3-9F1F-FE039682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5BAA1-9936-4917-BE0E-0DF3CCC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E5BB2-E7B4-4097-BA94-609D41D1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A1E88-F3EA-44C3-8838-8F63E9C8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DE6-6CF5-4BCD-A828-29C6811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47F0C-2274-4D6B-8AE3-9846DA24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22F6C-3827-493E-BD95-75F8681A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15498-3421-4EB1-A6E1-1AD6D5A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556FF-5B42-4A23-9B8C-F57CDEED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07156-CABA-4F03-B951-8D5D9A95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2CDCD-27A2-4BDE-9BB6-67690AE0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8A61C-94E9-4A1A-82EC-8E5171EF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C6B92-5F86-4575-9135-1F8E4D91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33AD5-8D9D-4948-84C6-4CBBC7E3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0F12F-34C0-4858-9205-3989BE4F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389A6-3274-4ABC-B24B-B18C97F45765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54D06-197C-40BF-9EEC-0C7C59D3772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7057-925F-48AD-ADB5-3A716835BA14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8BBF-EFE8-437B-9C01-8DF1058C9EF2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3FBE-D697-4D10-AAEC-7FAC7AB6CDE6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B8C7-D733-44DF-A3EF-CBEE105DF41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866F-D89C-4D36-A22F-ED4C35AB9EDE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D036-5000-4854-B2C3-071883A6914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A19E-865B-403E-B42E-7397449C2CC0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B361-1E48-4A6F-8A20-142E6A8141C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45E3-9C0B-4B11-B91C-B4D2E2559873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819B-51DC-49F7-9795-315E932AA00E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17C5-AE53-489B-81DC-735BD148D4CC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9CD5-54C6-4054-A7EC-FDBC4622268D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2917-AC64-42DB-9CC9-870FD81623B5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9D0A-41F6-4D6D-BECC-940FFBDA14B5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3F41-DCF5-474F-8082-3D8F5C959E91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97B0-E755-4F25-BD16-EEEF0DAE3E0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974E-8ED1-47D9-A88F-6D535D1C4445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2378-044D-4A21-86CE-B715E0A88652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3987-F9AA-4022-9891-46BA7944F637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F821-4E57-420C-A9D5-25DAE27C975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163E-0827-49BC-B6A4-FD863DDAD297}" type="datetime">
              <a:rPr b="0" lang="ms-MY" sz="900" spc="-1" strike="noStrike">
                <a:solidFill>
                  <a:srgbClr val="ffffff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5727-17E5-4C55-9BAC-F4073FEDF16B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1568520"/>
            <a:ext cx="754380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FUNGSI-FUNGSI GINJ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09120" y="5257440"/>
            <a:ext cx="792324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44068"/>
                </a:solidFill>
                <a:latin typeface="Calibri Light"/>
              </a:rPr>
              <a:t>MODUL LATIHAN PARAMEDIK UNTUK </a:t>
            </a:r>
            <a:r>
              <a:rPr b="1" i="1" lang="en-US" sz="2200" spc="-1" strike="noStrike">
                <a:solidFill>
                  <a:srgbClr val="344068"/>
                </a:solidFill>
                <a:latin typeface="Calibri Light"/>
              </a:rPr>
              <a:t>CLINICAL PRACTICE GUIDELINES (CPG)  </a:t>
            </a:r>
            <a:br>
              <a:rPr sz="2200"/>
            </a:br>
            <a:r>
              <a:rPr b="1" lang="en-US" sz="2200" spc="-1" strike="noStrike">
                <a:solidFill>
                  <a:srgbClr val="344068"/>
                </a:solidFill>
                <a:latin typeface="Calibri Light"/>
              </a:rPr>
              <a:t>RAWATAN PENYAKIT GINJAL KRONIK (</a:t>
            </a:r>
            <a:r>
              <a:rPr b="1" i="1" lang="en-US" sz="2200" spc="-1" strike="noStrike">
                <a:solidFill>
                  <a:srgbClr val="344068"/>
                </a:solidFill>
                <a:latin typeface="Calibri Light"/>
              </a:rPr>
              <a:t>CKD</a:t>
            </a:r>
            <a:r>
              <a:rPr b="1" lang="en-US" sz="2200" spc="-1" strike="noStrike">
                <a:solidFill>
                  <a:srgbClr val="344068"/>
                </a:solidFill>
                <a:latin typeface="Calibri Light"/>
              </a:rPr>
              <a:t>) DEWASA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0B85-DD35-4E85-97C4-0DF0C23B61B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7400880" y="85680"/>
            <a:ext cx="16462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23520" y="1980720"/>
            <a:ext cx="7162920" cy="403884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233280" indent="-233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merosotan fungsi ginjal pada peringkat awal biasanya tidak menunjukkan tanda atau gejala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233280" indent="-233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B44C-CA40-4360-B3FD-1261C0237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62120" y="2286000"/>
            <a:ext cx="38088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762120" y="3886200"/>
            <a:ext cx="380880" cy="2057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10" descr=""/>
          <p:cNvPicPr/>
          <p:nvPr/>
        </p:nvPicPr>
        <p:blipFill>
          <a:blip r:embed="rId1"/>
          <a:stretch/>
        </p:blipFill>
        <p:spPr>
          <a:xfrm>
            <a:off x="66600" y="4932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16292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Kemerosotan fungsi ginjal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218960" y="2133720"/>
            <a:ext cx="7391160" cy="35812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ka fungsi ginjal kurang daripada 30%, tanda dan gejala akan mula muncul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5817-EC75-4B67-8066-2F229900E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685800" y="2209680"/>
            <a:ext cx="304920" cy="3505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685800" y="4724280"/>
            <a:ext cx="3049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0" descr=""/>
          <p:cNvPicPr/>
          <p:nvPr/>
        </p:nvPicPr>
        <p:blipFill>
          <a:blip r:embed="rId1"/>
          <a:stretch/>
        </p:blipFill>
        <p:spPr>
          <a:xfrm>
            <a:off x="66600" y="4932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588" name="Title 1"/>
          <p:cNvSpPr/>
          <p:nvPr/>
        </p:nvSpPr>
        <p:spPr>
          <a:xfrm>
            <a:off x="1600200" y="380880"/>
            <a:ext cx="716292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  <a:ea typeface="MS PGothic"/>
              </a:rPr>
              <a:t>Kemerosotan fungsi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MS PGothic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352160" y="2133720"/>
            <a:ext cx="7257960" cy="35812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ka fungsi ginjal merosot ke tahap &lt;15%, pesakit memerlukan rawatan penggantian fungsi ginjal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nal replacement therap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untuk meneruskan kehidupan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9F09-2A78-4B4C-B4EA-B68679C90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685800" y="2209680"/>
            <a:ext cx="304920" cy="3505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685800" y="5410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10" descr=""/>
          <p:cNvPicPr/>
          <p:nvPr/>
        </p:nvPicPr>
        <p:blipFill>
          <a:blip r:embed="rId1"/>
          <a:stretch/>
        </p:blipFill>
        <p:spPr>
          <a:xfrm>
            <a:off x="66600" y="49320"/>
            <a:ext cx="1414440" cy="1779480"/>
          </a:xfrm>
          <a:prstGeom prst="rect">
            <a:avLst/>
          </a:prstGeom>
          <a:ln w="0">
            <a:noFill/>
          </a:ln>
        </p:spPr>
      </p:pic>
      <p:sp>
        <p:nvSpPr>
          <p:cNvPr id="594" name="Title 1"/>
          <p:cNvSpPr/>
          <p:nvPr/>
        </p:nvSpPr>
        <p:spPr>
          <a:xfrm>
            <a:off x="1600200" y="380880"/>
            <a:ext cx="716292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  <a:ea typeface="MS PGothic"/>
              </a:rPr>
              <a:t>Kemerosotan fungsi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MS PGothic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523520"/>
            <a:ext cx="8153280" cy="449604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dan berasa letih lesu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anaemia dan pengumpulan bahan-bahan toksik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036E-311C-41DB-BF82-A4BDDC42A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ubbvl02v[1]"/>
          <p:cNvPicPr/>
          <p:nvPr/>
        </p:nvPicPr>
        <p:blipFill>
          <a:blip r:embed="rId1"/>
          <a:stretch/>
        </p:blipFill>
        <p:spPr>
          <a:xfrm>
            <a:off x="5614920" y="3786120"/>
            <a:ext cx="2979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urang selera, loya dan muntah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pengumpulan bahan-bahan toksik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2342-4F7E-42BB-ACEC-C9066F7E6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02" name="Picture 8" descr=""/>
          <p:cNvPicPr/>
          <p:nvPr/>
        </p:nvPicPr>
        <p:blipFill>
          <a:blip r:embed="rId1"/>
          <a:stretch/>
        </p:blipFill>
        <p:spPr>
          <a:xfrm>
            <a:off x="6377040" y="38592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6840" y="1599840"/>
            <a:ext cx="8077320" cy="43434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ngkak kaki dan muka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kegagalan ginjal membuang air yang berlebihan dari bada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CFDE-0B9B-4EED-B379-A8E19EE78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06" name="Picture 6" descr=""/>
          <p:cNvPicPr/>
          <p:nvPr/>
        </p:nvPicPr>
        <p:blipFill>
          <a:blip r:embed="rId1"/>
          <a:stretch/>
        </p:blipFill>
        <p:spPr>
          <a:xfrm>
            <a:off x="6377040" y="3633840"/>
            <a:ext cx="2101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kar bernafa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gagalan ginjal membuang air yang berlebihan dari badan menyebabkan ia berkumpul di paru-paru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10AB-4123-4778-A5CF-5D72A62CE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8" descr="http://www.smasa.asn.au/smartplay/ouch/medical/asthma/images/asthma2.gif"/>
          <p:cNvPicPr/>
          <p:nvPr/>
        </p:nvPicPr>
        <p:blipFill>
          <a:blip r:embed="rId1"/>
          <a:stretch/>
        </p:blipFill>
        <p:spPr>
          <a:xfrm>
            <a:off x="5767560" y="4091040"/>
            <a:ext cx="2670120" cy="20541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4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gatalan kuli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pengumpulan bahan toksik (urea atau fosfat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6C8A-F574-4A6A-B0A3-43DA071FE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http://www.healthtipsandguides.net/wp-content/uploads/2011/05/Itchy-Skin.jpg"/>
          <p:cNvPicPr/>
          <p:nvPr/>
        </p:nvPicPr>
        <p:blipFill>
          <a:blip r:embed="rId1"/>
          <a:stretch/>
        </p:blipFill>
        <p:spPr>
          <a:xfrm>
            <a:off x="5919840" y="3754440"/>
            <a:ext cx="2413080" cy="241452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5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c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babkan oleh anaem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E950-8A84-43B7-B8F6-0026303D2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6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618" name="Picture 3" descr=""/>
          <p:cNvPicPr/>
          <p:nvPr/>
        </p:nvPicPr>
        <p:blipFill>
          <a:blip r:embed="rId1"/>
          <a:stretch/>
        </p:blipFill>
        <p:spPr>
          <a:xfrm>
            <a:off x="5062680" y="3581280"/>
            <a:ext cx="33336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kanan darah tinggi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 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3B41-2544-4FF8-AC39-D4C3930D9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8" descr="http://usermeds.com/static/089da787e4a1d1cfa86d8090e19baefd.jpg"/>
          <p:cNvPicPr/>
          <p:nvPr/>
        </p:nvPicPr>
        <p:blipFill>
          <a:blip r:embed="rId1"/>
          <a:stretch/>
        </p:blipFill>
        <p:spPr>
          <a:xfrm>
            <a:off x="5767560" y="3657600"/>
            <a:ext cx="2717640" cy="26208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Gejala kegagalan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7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RANGKA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7772400" cy="2209680"/>
          </a:xfrm>
          <a:prstGeom prst="rect">
            <a:avLst/>
          </a:prstGeom>
          <a:solidFill>
            <a:srgbClr val="d3f5f6"/>
          </a:solidFill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buClr>
                <a:srgbClr val="1cade4"/>
              </a:buClr>
              <a:buFont typeface="Calibri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PAKAH GINJA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1cade4"/>
              </a:buClr>
              <a:buFont typeface="Calibri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FUNGSI-FUNGSI GINJ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1cade4"/>
              </a:buClr>
              <a:buFont typeface="Calibri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TANDA DAN GEJALA PENYAKIT GINJ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F2B2-F30A-47A9-8FC3-7463F2E2A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Kesimpulan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447920"/>
            <a:ext cx="8153280" cy="44956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Kebanyakan pesakit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SimSun"/>
              </a:rPr>
              <a:t>TIAD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gejala dan tanda yang jelas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pada peringkat awal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CKD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D30E-AA19-405B-96F6-8C7EF07D5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3581640" cy="27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TERIMA KASIH</a:t>
            </a: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B781-7E0C-4753-AA32-B65910FF6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5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28814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Apakah ginjal?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sang organ berbentuk kacang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letak di pertengahan belakang, di bawah tulang rusuk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FD4C-9D67-478E-AD53-F37925E53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8" descr="pg2"/>
          <p:cNvPicPr/>
          <p:nvPr/>
        </p:nvPicPr>
        <p:blipFill>
          <a:blip r:embed="rId1"/>
          <a:stretch/>
        </p:blipFill>
        <p:spPr>
          <a:xfrm>
            <a:off x="6791400" y="2828880"/>
            <a:ext cx="18097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uang bahan kumuh/toksik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Ure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Creatinin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Fosfa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723960" indent="-36828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Lain-lai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600B-60A2-452F-9444-1A0319948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Object 21"/>
          <p:cNvGraphicFramePr/>
          <p:nvPr/>
        </p:nvGraphicFramePr>
        <p:xfrm>
          <a:off x="5784840" y="3429000"/>
          <a:ext cx="278136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4840" y="3429000"/>
                    <a:ext cx="27813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awal keseimbangan paras air dan elektrolit dalam badan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090C-560F-41E4-8E0F-C34E92955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21"/>
          <p:cNvGraphicFramePr/>
          <p:nvPr/>
        </p:nvGraphicFramePr>
        <p:xfrm>
          <a:off x="5715000" y="3200400"/>
          <a:ext cx="2622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00400"/>
                    <a:ext cx="2622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awal tekanan darah melalui mekanisma seperti: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ensi air dan sodium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55680" indent="-2383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perti renin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3D5B-B900-4F24-84DE-D48DD1FEC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bpcuff"/>
          <p:cNvPicPr/>
          <p:nvPr/>
        </p:nvPicPr>
        <p:blipFill>
          <a:blip r:embed="rId1"/>
          <a:stretch/>
        </p:blipFill>
        <p:spPr>
          <a:xfrm>
            <a:off x="6181560" y="3213000"/>
            <a:ext cx="2548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g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4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520" y="1676520"/>
            <a:ext cx="8458200" cy="457200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hasilkan hormon eritropoeitin yang mengawal penghasilan sel darah merah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F941-1198-4110-AEB0-306B0D2C5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6" descr="http://www.scientiapress.com/wp/wp-content/uploads/2011/12/red-blood-cells.jpg"/>
          <p:cNvPicPr/>
          <p:nvPr/>
        </p:nvPicPr>
        <p:blipFill>
          <a:blip r:embed="rId1"/>
          <a:stretch/>
        </p:blipFill>
        <p:spPr>
          <a:xfrm>
            <a:off x="5346720" y="3591000"/>
            <a:ext cx="31273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95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Hormon eritropoeitin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0880" y="1523880"/>
            <a:ext cx="8382240" cy="472464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6BD4-942E-4EB7-A7FE-360E61161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5400000">
            <a:off x="4975560" y="1500840"/>
            <a:ext cx="716040" cy="1676520"/>
          </a:xfrm>
          <a:prstGeom prst="downArrow">
            <a:avLst>
              <a:gd name="adj1" fmla="val 50000"/>
              <a:gd name="adj2" fmla="val 58534"/>
            </a:avLst>
          </a:prstGeom>
          <a:solidFill>
            <a:srgbClr val="008000"/>
          </a:solidFill>
          <a:ln w="6660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3"/>
          <p:cNvSpPr txBox="1"/>
          <p:nvPr/>
        </p:nvSpPr>
        <p:spPr>
          <a:xfrm>
            <a:off x="914400" y="1959120"/>
            <a:ext cx="3390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RITROPOEITIN</a:t>
            </a:r>
            <a:endParaRPr b="0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4786200" y="462276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2"/>
          <p:cNvSpPr/>
          <p:nvPr/>
        </p:nvSpPr>
        <p:spPr>
          <a:xfrm>
            <a:off x="5715000" y="5486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 DARAH M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Down Arrow 13"/>
          <p:cNvSpPr/>
          <p:nvPr/>
        </p:nvSpPr>
        <p:spPr>
          <a:xfrm>
            <a:off x="457200" y="1981080"/>
            <a:ext cx="331920" cy="5968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21" descr=""/>
          <p:cNvPicPr/>
          <p:nvPr/>
        </p:nvPicPr>
        <p:blipFill>
          <a:blip r:embed="rId1"/>
          <a:stretch/>
        </p:blipFill>
        <p:spPr>
          <a:xfrm>
            <a:off x="6224760" y="1573200"/>
            <a:ext cx="2286000" cy="2444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"/>
          <p:cNvPicPr/>
          <p:nvPr/>
        </p:nvPicPr>
        <p:blipFill>
          <a:blip r:embed="rId2"/>
          <a:stretch/>
        </p:blipFill>
        <p:spPr>
          <a:xfrm>
            <a:off x="390600" y="2627280"/>
            <a:ext cx="1236600" cy="359748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9"/>
          <p:cNvSpPr/>
          <p:nvPr/>
        </p:nvSpPr>
        <p:spPr>
          <a:xfrm>
            <a:off x="1066680" y="430848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5" descr=""/>
          <p:cNvPicPr/>
          <p:nvPr/>
        </p:nvPicPr>
        <p:blipFill>
          <a:blip r:embed="rId3"/>
          <a:stretch/>
        </p:blipFill>
        <p:spPr>
          <a:xfrm>
            <a:off x="2505240" y="3535200"/>
            <a:ext cx="2060280" cy="22003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6" descr=""/>
          <p:cNvPicPr/>
          <p:nvPr/>
        </p:nvPicPr>
        <p:blipFill>
          <a:blip r:embed="rId4"/>
          <a:stretch/>
        </p:blipFill>
        <p:spPr>
          <a:xfrm>
            <a:off x="5767560" y="4114800"/>
            <a:ext cx="1792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29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</a:rPr>
              <a:t>Fungsi ginjal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5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76520"/>
            <a:ext cx="8305920" cy="4495680"/>
          </a:xfrm>
          <a:prstGeom prst="rect">
            <a:avLst/>
          </a:prstGeom>
          <a:solidFill>
            <a:srgbClr val="c0dad9"/>
          </a:solidFill>
          <a:ln w="0">
            <a:noFill/>
          </a:ln>
        </p:spPr>
        <p:txBody>
          <a:bodyPr lIns="0" rIns="0" anchor="t">
            <a:normAutofit/>
          </a:bodyPr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ghasilkan vitamin D yang aktif untuk kalsifikasi tulang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39840" indent="-222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56CA-8C38-4CD0-A392-89946EC84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8" descr="http://www.thevisualmd.com/biomarkerlibrary/images/content/304/QD3350_CARD_VitaminD_C01_HealthyBones.jpg"/>
          <p:cNvPicPr/>
          <p:nvPr/>
        </p:nvPicPr>
        <p:blipFill>
          <a:blip r:embed="rId1"/>
          <a:stretch/>
        </p:blipFill>
        <p:spPr>
          <a:xfrm>
            <a:off x="6297480" y="3786120"/>
            <a:ext cx="24195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23:25:52Z</dcterms:created>
  <dc:creator>Dr. Ong Loke Meng</dc:creator>
  <dc:description/>
  <dc:language>en-US</dc:language>
  <cp:lastModifiedBy>Dr. Mohd. Aminuddin</cp:lastModifiedBy>
  <dcterms:modified xsi:type="dcterms:W3CDTF">2019-05-16T03:16:06Z</dcterms:modified>
  <cp:revision>228</cp:revision>
  <dc:subject/>
  <dc:title>MANAGEMENT OF  CHRONIC KIDNEY DISEASE IN ADULTS</dc:title>
</cp:coreProperties>
</file>